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483A-21A7-4F31-BF44-D63D12605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3B3B-BC15-4C83-B2F5-7F27B024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47D8-9663-4A3E-AE15-95C973C6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1CE8-A841-4E10-9FBD-0800CAB2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81BF-F80C-4725-B3A4-67C58BAD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CE96-F285-471F-A403-0E98FF7B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3F18-DBD0-490E-9E24-B92CBE68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4DEF-0C4D-4F14-B176-2C24B597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191E-51A7-4FEB-ABF1-705C7152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A1E4-E6B9-45B3-96C6-9DD54D89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AD1E-9ECF-45C7-935E-0DA4B213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5D49-3934-45F4-8E7F-46468107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5703-5780-45E7-A360-91D6AAFE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76A5-08D9-4CF3-997E-B5456DD4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5788-52DD-475D-8A27-73553AEC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C72C-DE22-48A1-AE59-FF363F0D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0D70-1238-4AFF-80B5-A9DFFCC2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A9E8-ECCF-4331-A967-73633173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95DF-9A9C-4469-AE66-F01A4192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D10B-303C-4AA0-82B7-83363EDB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59D2-8B30-44E1-900E-61079BF6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CBE8-18FC-46A1-AB1E-61D21E74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3D4C-9C30-433C-9D20-C87D7D5A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A4E5-9DF8-4447-B894-39C2A04D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C892-08CB-4AE4-BFF7-0D66D7D797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DCFB-938D-4384-A9DE-6D1857A214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Three Domains of Learning 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3123720"/>
            <a:ext cx="7543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Dr. Verk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EDG 44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eaching Strategies and Classroom Mana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University of Central Florida, Orlando, F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Fall 20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evels of Bloom’s Taxonomy of Educational Objectives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:  requires students to memorize and recall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rehension:  requires students to demonstrate some level of understa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cation:  requires students to use previously acquired information in a setting other than that in which it was learned.  Students are required to transfer their skills to another setting/situati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evels of Bloom’s Taxonomy of Educational Objectives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lysis:  requires students to draw relationships among ideas or to compare/contrast; break down inform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thesis:  requires students to draw from what he/she has learned and produce something unique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ighest level in Anderson and Krathwohl’s mod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luation:  requires students to form judgments about the value or worth of something and to substantiate his/her judgment.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ext to the highest level in Anderson and Krathwohl’s model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990720" y="17784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vels of the Cognitive Do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930240"/>
          <a:ext cx="8382240" cy="5394240"/>
        </p:xfrm>
        <a:graphic>
          <a:graphicData uri="http://schemas.openxmlformats.org/drawingml/2006/table">
            <a:tbl>
              <a:tblPr/>
              <a:tblGrid>
                <a:gridCol w="1347840"/>
                <a:gridCol w="3452760"/>
                <a:gridCol w="1262160"/>
                <a:gridCol w="23194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Le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Verb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Objec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Knowled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To recall or recognize information in some pre-arranged form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Defin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Li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Define levels of cognitive domai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Comprehen-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To understand meaning of information based on prior learning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Describe Expla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Interpr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Explain purpose of cognitive domai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To utilize information to complete a task with limited directio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Compu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Solv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Write objective for levels of cognitive domai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Analy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To classify and relate assumptions or evidenc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Contra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Exam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Compare cognitive &amp; affective domain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Synthe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To integrate or combine ideas into a new product or pla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Design Develop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Organiz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Design way to write objectives that combines 3 domain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Evalu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Critique idea based on specific standards and criteria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Apprai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Judg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Justif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Judge effectiveness of writing objectives using taxonomy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39" name="Rectangle 1"/>
          <p:cNvSpPr/>
          <p:nvPr/>
        </p:nvSpPr>
        <p:spPr>
          <a:xfrm>
            <a:off x="2615760" y="6411960"/>
            <a:ext cx="39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ble developed by W. Huitt (1998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omains of Learning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lesson plan must include goals/objectives, or statements indicating what students should be able to do at the end of a period of instructio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goals are known as goal statements, goals objectives, objectives, or learning target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objective falls within at least one of three domains (or categories) of learning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The Affec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ctives reflecting underlying emotions, feelings, or values are said to come from the affective domai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ffective domain contains five levels, each of which builds upon the other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 music student will appreciate music from the Baroque period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781680" y="4800600"/>
            <a:ext cx="1308240" cy="1308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Hierarchical Levels of the Affec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eiving (Attend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po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u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zation by a value or value complex:  One behaves in a manner consistent with one’s value system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th-1.jpg"/>
          <p:cNvPicPr/>
          <p:nvPr/>
        </p:nvPicPr>
        <p:blipFill>
          <a:blip r:embed="rId1"/>
          <a:stretch/>
        </p:blipFill>
        <p:spPr>
          <a:xfrm>
            <a:off x="5757840" y="2286000"/>
            <a:ext cx="2014560" cy="201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68580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vels of the Affective Domai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295280"/>
          <a:ext cx="8381880" cy="4754520"/>
        </p:xfrm>
        <a:graphic>
          <a:graphicData uri="http://schemas.openxmlformats.org/drawingml/2006/table">
            <a:tbl>
              <a:tblPr/>
              <a:tblGrid>
                <a:gridCol w="1752480"/>
                <a:gridCol w="3124440"/>
                <a:gridCol w="1295280"/>
                <a:gridCol w="22096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Le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Verb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Objec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Receiv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Being aware of, or attending to something in the environmen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Liste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Notic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Tole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Listen attentively to badminton introductio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Respon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Showing some new behavior as a result of experienc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Comply Enjo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Fol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Voluntarily help set up badminton net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Valu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Showing some definite involvement or commitmen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Carry out Expr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Attend optional badminton match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Organiz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Integrating a new value into one's general set of values relative to other prioriti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Choo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Consider Pref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Purchase own badminton racke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Characteriz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Acting consistently with the new value; person is known by the valu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Act on Depic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Exemplif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Join intramurals to play badminton twice per week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21" name="TextBox 1"/>
          <p:cNvSpPr/>
          <p:nvPr/>
        </p:nvSpPr>
        <p:spPr>
          <a:xfrm>
            <a:off x="2552040" y="6324480"/>
            <a:ext cx="39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ble developed by W. Huitt (1998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Psychomotor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s in this domain deal with movemen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dance student will perform all 5 basic positions of ballet with 100% accuracy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92096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Psychomotor Domain Hierarchy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6632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ving – gross motor control, such as skipping and run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ipulating – fine motor coordination, such as writing, drawing, cut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cating – communication of ideas and feelings, such as body language, gestures, and facial expres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ing – represents the student’s coordination of thinking, learning, and behaving in all three domains (such as drama, dance, art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ogni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ctives that deals with level of thinking required of the stud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objectives in the schools                                tend to come from the cognitive                             domai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gnitive domains most referred to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oom’s Taxonomy of Educational Objectives; six hierarchical level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erson and Krathwohl’s Taxonom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vision of Bloom’s Taxonom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ips the last two levels of Bloom’s Taxonom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6019920" y="2438280"/>
            <a:ext cx="234936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ogni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w Model:  Anderson and Krathwohl’s Taxonomy (200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ry similar to Bloom’s Taxonomy, except for switching of the two highest levels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erson and Krathwohl’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oom’s Taxonomy                          Taxonom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3" descr="Two cognitive domains.png"/>
          <p:cNvPicPr/>
          <p:nvPr/>
        </p:nvPicPr>
        <p:blipFill>
          <a:blip r:embed="rId1"/>
          <a:stretch/>
        </p:blipFill>
        <p:spPr>
          <a:xfrm>
            <a:off x="914400" y="3276720"/>
            <a:ext cx="7543800" cy="3209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 </dc:creator>
  <dc:description/>
  <dc:language>en-US</dc:language>
  <cp:lastModifiedBy>Karen Verkler</cp:lastModifiedBy>
  <cp:lastPrinted>2013-09-03T11:08:52Z</cp:lastPrinted>
  <dcterms:modified xsi:type="dcterms:W3CDTF">2014-07-28T14:39:18Z</dcterms:modified>
  <cp:revision>264</cp:revision>
  <dc:subject/>
  <dc:title>Slide 1</dc:title>
</cp:coreProperties>
</file>